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794-6420-4BE6-9FC4-78F1E023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BC1-3339-4435-810B-0E245DB8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B27-E14E-400F-B917-83384DDF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FB5-E3DB-4C1E-8B82-3F1407E6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09F-9832-4EDA-A778-05E6129E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507-3633-477F-8543-50C6EE4E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8E6-EEF8-4231-A5EA-0BB098AD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421-C3CC-4D47-9972-FEE2FD6D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9F9-A9F2-49DD-BB4E-3C6E4C51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B07-992D-42E9-9F49-D6C8A625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BB7-0E60-429C-9D19-406C882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6BB-48B8-4DC9-9D8F-769F6B45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B4BC-5F3A-48A1-B33B-6161CBBE2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125280"/>
            <a:ext cx="8839440" cy="673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34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752480" y="0"/>
            <a:ext cx="5585040" cy="6892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08660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ID00251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ID00253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VID00254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VID00255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8108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22:15:03Z</dcterms:created>
  <dc:creator>ladibug</dc:creator>
  <dc:description/>
  <dc:language>en-US</dc:language>
  <cp:lastModifiedBy>rchan15</cp:lastModifiedBy>
  <dcterms:modified xsi:type="dcterms:W3CDTF">2012-05-01T16:25:02Z</dcterms:modified>
  <cp:revision>5</cp:revision>
  <dc:subject/>
  <dc:title>Slide 1</dc:title>
</cp:coreProperties>
</file>